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CFE7-3458-4969-B758-7DAB9EE3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939-11D5-4A2E-81E5-13C3FA4E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BA5-3267-47F8-80F7-CB97C01D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B507-A24C-46D4-8471-296C6EC6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42B4-3087-41C3-832D-212AA7A9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C2DC-BA91-4465-AFAF-846B799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CB9-934C-4E8F-9AC6-8061665A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8FD-E777-4B08-B46F-21192B17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F166-F640-4EC0-A9C1-86B8C67F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BE5B-E9EA-4447-B74C-9D4663B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157-7A1F-428C-A30F-B3A6AE1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7D9-257B-4678-B9DE-D59509F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13D-9014-461C-8C3A-B6F2A72B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212-C5A5-4647-A6EF-3A95D1B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B7C9-68D6-443A-8B41-785E735C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16E9-ECBB-4860-B45A-25544B1C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082-834E-49FE-B238-9EA76F13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023-1180-4516-BE6E-B0062F30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275-BAA1-4196-A666-16E999C0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2AAC-898B-4482-AA76-53C6306A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0AB-6E33-466B-B20B-1C2FDA5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E26-C11A-4666-91E1-D6301F3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7B4-D582-4140-85FF-D4A4AE0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99B-A63B-477E-BEDF-964802F4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48BA-16C0-45B7-B0FD-C5F60DD6470E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B57E-6A2E-4CD2-82C6-35A30FBC4761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38120" y="-6480"/>
            <a:ext cx="8839080" cy="133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By Joshua Michael Pyk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Grade:5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Lin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To John Cena biography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To John Cena’s pictu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To Math game 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To Math game review 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To KFC histo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To KFC log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To Rumplestilt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To 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332920" cy="987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14200" y="11426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Name :John Ce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is famous because he is a wrestl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Place of birth: West Newbury Massachuset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Date of birth: 23 of April 1977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ge: 32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been in WWE since 2002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is first match was against Kurt Ang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won 4 titl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has been injured 2 times badl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 came back from a injury in 2008 to win the Royal Rumble.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To John Cena’s picture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john cena.jpg"/>
          <p:cNvPicPr/>
          <p:nvPr/>
        </p:nvPicPr>
        <p:blipFill>
          <a:blip r:embed="rId2"/>
          <a:stretch/>
        </p:blipFill>
        <p:spPr>
          <a:xfrm>
            <a:off x="0" y="128592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1357200" y="6072120"/>
            <a:ext cx="72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 the maths game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s  called car wash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s to get answers correct and wash the c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You chose a car and it has a level. You click on the right answer then after you get them all right you wash them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think its a pretty cool ga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would recommend it for every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Here is a link to the game :http://www.multiplication.com/flashgames/CarWash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next page of my math game revie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52804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With the car wash game I think its pretty easy. It is fun to play because it tests your tables skills. Also with car wash you get to race the car you wash!!!!! It is a very awesome game to play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K.F.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originated in Kentucky U.S.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t is successful because it sells the best tasting fo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lon Harland Sanders created KFC in 1952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n 2008 they made about 1million dolla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Colon Sand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the KFC logo pa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3" descr="300px-KFC_logo_svg.png"/>
          <p:cNvPicPr/>
          <p:nvPr/>
        </p:nvPicPr>
        <p:blipFill>
          <a:blip r:embed="rId2"/>
          <a:stretch/>
        </p:blipFill>
        <p:spPr>
          <a:xfrm>
            <a:off x="857160" y="1214280"/>
            <a:ext cx="7572600" cy="4357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1428840" y="58579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Rumplestilts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93560" y="-7920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mplestilt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gir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n a kingd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mplestiltskin can spin straw into gol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re are 5 magical numb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girl gives gold to the k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 gets greed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king threatened the girl he would kill h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y get married and they live happily ever aft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o the e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I hope you enjoyed my web ques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3:08:35Z</dcterms:created>
  <dc:creator>Education</dc:creator>
  <dc:description/>
  <dc:language>en-US</dc:language>
  <cp:lastModifiedBy>Education</cp:lastModifiedBy>
  <dcterms:modified xsi:type="dcterms:W3CDTF">2009-12-01T22:52:44Z</dcterms:modified>
  <cp:revision>16</cp:revision>
  <dc:subject/>
  <dc:title>My grade 5 web quest!</dc:title>
</cp:coreProperties>
</file>